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58B-E995-4C17-8BAD-41C2B4BC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59B6-9925-4AC2-8367-22AB7802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747-A0E3-4FEA-A7F7-D5A6A414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EBD-F612-4379-B515-EB547CFE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9923-DC2D-4F48-ABE2-06367055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B4CC-2951-4C29-9E35-BFBE93D9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0C8-A529-4182-B0BB-8B783A43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E93-E24F-4C80-9DE6-BA4ABE5F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3C8-563F-4A7A-AA6F-D31EE681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F3B-5BCD-4348-85D9-825C2046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858-1BC6-4487-B32C-F2AABE31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902-F2A4-4983-B483-37474E38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9EF0-2666-4C12-8842-B6347109C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304920" y="1981080"/>
            <a:ext cx="4876560" cy="42674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Disciplinary Core Ide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1:  Matter and Its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2:  Motion and Stability:  Forces and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3: 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S4:  Waves and Their Applications in Technologies for Information Transf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1:  From Molecules to Organisms:  Structures and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2:  Ecosystems:  Interactions, Energy, and 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3:  Heredity:  Inheritance and Variation of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S4:  Biological Evolution:  Unity and D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AND SPACE SCI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1:  Earth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Place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2:  Earth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3:  Earth and Human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ING, TECHNOLOGY, AND APPLICATIONS OF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S1:  Engineering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S2:  Links Among Engineering, Technology, Science, and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90840" y="456840"/>
            <a:ext cx="5407200" cy="19810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Science and Engineering Practi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Asking Questions (for science) and Defining Problems (for enginee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Developing and Using Mode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Planning and Carrying Out Investiga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Analyzing and Interpreting Da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Using Mathematics and Computational Thin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 Constructing Explanations (for science) and Designing Solutions (for engineering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 Engaging in Argument from Eviden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 Obtaining, Evaluating, and Communicating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33520" y="423720"/>
            <a:ext cx="2286000" cy="110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itle 1"/>
          <p:cNvSpPr/>
          <p:nvPr/>
        </p:nvSpPr>
        <p:spPr>
          <a:xfrm>
            <a:off x="4724280" y="4191120"/>
            <a:ext cx="3657600" cy="1828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Crosscutting Concep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Cause and Effect:  Mechanisms and Expla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cale, Proportion, and Quant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Systems and System Mod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Energy and Matter:  Flows, Cycles, and Con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Structure an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tability and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5334120" y="31194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ww.nextgenscience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3T18:56:41Z</dcterms:created>
  <dc:creator>Willcuts, Peggy M (Meredith)</dc:creator>
  <dc:description/>
  <dc:language>en-US</dc:language>
  <cp:lastModifiedBy>Microsoft Office User</cp:lastModifiedBy>
  <cp:lastPrinted>2016-02-04T21:40:52Z</cp:lastPrinted>
  <dcterms:modified xsi:type="dcterms:W3CDTF">2016-02-04T21:41:11Z</dcterms:modified>
  <cp:revision>13</cp:revision>
  <dc:subject/>
  <dc:title>Scientific and Engineering Practices</dc:title>
</cp:coreProperties>
</file>